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02D-FA29-4F6E-95F8-7EE47925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383-E4BD-4B74-B802-C213C2EF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DDE-4492-4445-843D-3814831F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746-92CB-4627-B6DA-6CCAC9A7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46EB-43AE-4C2D-902B-00EC4E16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CB13-8E40-4A18-8CA4-CA2B7D52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9C67-CBEE-4C57-A6BF-C98CAE5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980D-EB2D-452A-A2BE-825BE9EE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C1AD-5A07-4482-A495-08AF4B6E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ACB0-82D2-4260-AD85-AFE89DC6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9775-9343-4A13-8364-CA73ABA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060-0AC6-4B7F-B259-655D4B88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F4AC-7954-4153-81E3-9B02DC5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6722-C996-4E4E-AD21-3AFCEFB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F61C-3144-4A05-AF8C-0B826FA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5252-11E4-4085-B59E-5A7916E7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EA11-B40D-4F1D-85A6-E0B75A8B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68D-8BA9-421B-9C94-F4B6D96A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DEED-852F-4AA7-BCB1-EA0BA521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08D-7E97-4D89-A8B3-18940CB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ACD-127F-4238-9DD1-4F40CDE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49F-C7AB-47D9-9183-EF96058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51B-739B-48DF-8AB5-07FE3C0F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493-B929-4C68-B351-7559140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FDB-1EBB-45A0-8167-7EDA2307F29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26D6DC3-82F0-4FAE-B15C-9D3DB16B5168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2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B59E-9C58-4ABB-AF0A-465305B16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91C5-4AD7-4470-9B7B-14307EED127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C4E2A08-7873-47CA-A107-666EDB65CF47}" type="datetime10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2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9D0-4D9A-461E-9620-00D2CE21D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ulinet.hu/tart/fcikk/Kcu/0/32372/1" TargetMode="External"/><Relationship Id="rId2" Type="http://schemas.openxmlformats.org/officeDocument/2006/relationships/hyperlink" Target="http://www.sulinet.hu/tart/fcikk/Kcx/0/31819/1" TargetMode="External"/><Relationship Id="rId3" Type="http://schemas.openxmlformats.org/officeDocument/2006/relationships/hyperlink" Target="http://www.sulinet.hu/ikt/digitalis_pedagogia/matematika.html" TargetMode="External"/><Relationship Id="rId4" Type="http://schemas.openxmlformats.org/officeDocument/2006/relationships/hyperlink" Target="http://www.sulinet.hu/tart/cikk/Se/0/17763/1" TargetMode="External"/><Relationship Id="rId5" Type="http://schemas.openxmlformats.org/officeDocument/2006/relationships/hyperlink" Target="http://www.sulinet.hu/tart/fcikk/Kch/0/32487/1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yakg.u-szeged.hu/" TargetMode="External"/><Relationship Id="rId2" Type="http://schemas.openxmlformats.org/officeDocument/2006/relationships/hyperlink" Target="http://www.gyakg.u-szeged.hu/" TargetMode="External"/><Relationship Id="rId3" Type="http://schemas.openxmlformats.org/officeDocument/2006/relationships/hyperlink" Target="http://matematika.sulinet.hu/" TargetMode="External"/><Relationship Id="rId4" Type="http://schemas.openxmlformats.org/officeDocument/2006/relationships/hyperlink" Target="http://matematika.sulinet.hu/" TargetMode="External"/><Relationship Id="rId5" Type="http://schemas.openxmlformats.org/officeDocument/2006/relationships/hyperlink" Target="http://matematika.sulinet.hu/" TargetMode="External"/><Relationship Id="rId6" Type="http://schemas.openxmlformats.org/officeDocument/2006/relationships/hyperlink" Target="http://matematika.sulinet.hu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711&amp;t=mat&amp;l=hu" TargetMode="External"/><Relationship Id="rId2" Type="http://schemas.openxmlformats.org/officeDocument/2006/relationships/hyperlink" Target="file:///b_4035(K&#246;MaL).dfw" TargetMode="External"/><Relationship Id="rId3" Type="http://schemas.openxmlformats.org/officeDocument/2006/relationships/hyperlink" Target="file:///b_4035(K&#246;MaL).dfw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801&amp;t=mat&amp;l=hu" TargetMode="External"/><Relationship Id="rId2" Type="http://schemas.openxmlformats.org/officeDocument/2006/relationships/hyperlink" Target="file:///b_4057(K&#246;MaL).dfw" TargetMode="External"/><Relationship Id="rId3" Type="http://schemas.openxmlformats.org/officeDocument/2006/relationships/hyperlink" Target="file:///b_4057(K&#246;MaL).dfw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Mi%20a%20hat&#225;rozott%20integr&#225;l.dfw" TargetMode="External"/><Relationship Id="rId2" Type="http://schemas.openxmlformats.org/officeDocument/2006/relationships/hyperlink" Target="file:///Mi%20a%20hat&#225;rozott%20integr&#225;l.dfw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246;sszetett%20f&#252;ggv&#233;ny%20inverz%20f&#252;ggv&#233;ny.dfw" TargetMode="External"/><Relationship Id="rId2" Type="http://schemas.openxmlformats.org/officeDocument/2006/relationships/hyperlink" Target="file:///&#246;sszetett%20f&#252;ggv&#233;ny%20inverz%20f&#252;ggv&#233;ny.dfw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rekurzi&#243;.dfw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hiperbola_parabola_ellipszis.dfw" TargetMode="External"/><Relationship Id="rId2" Type="http://schemas.openxmlformats.org/officeDocument/2006/relationships/hyperlink" Target="file:///hiperbola_parabola_ellipszis.dfw" TargetMode="External"/><Relationship Id="rId3" Type="http://schemas.openxmlformats.org/officeDocument/2006/relationships/hyperlink" Target="file:///hiperbola_parabola_ellipszis.dfw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omal.hu/verseny/feladat.cgi?a=honap&amp;h=200704&amp;t=mat&amp;l=hu" TargetMode="External"/><Relationship Id="rId2" Type="http://schemas.openxmlformats.org/officeDocument/2006/relationships/hyperlink" Target="file:///b_4001.dfw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7770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ffb7"/>
                </a:solidFill>
                <a:latin typeface="Arial Black"/>
              </a:rPr>
              <a:t>A Derive program alkalmazási lehetőségei a matematika oktatásában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0CF5954-B3CD-453D-B06A-073E73D75FCE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b7"/>
                </a:solidFill>
                <a:latin typeface="Arial Black"/>
              </a:rPr>
              <a:t>Derive-os oldalak az Interneten</a:t>
            </a:r>
            <a:r>
              <a:rPr b="1" lang="hu-H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kurziók Derive-val (http://www.sulinet.hu/tart/fcikk/Kcu/0/31262/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éges összegek vizsgálata Derive-val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sulinet.hu/tart/fcikk/Kcu/0/32372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atározott integrál fogalmának előkészítése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www.sulinet.hu/tart/fcikk/Kcx/0/31819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igitális eszközök használata a matematika tantárgy oktatásában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www.sulinet.hu/ikt/digitalis_pedagogia/matematika.htm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Derive – egy program a matematika tanításához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http://www.sulinet.hu/tart/cikk/Se/0/17763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an használható a számítógép a matematika feladatok megoldásában?. (</a:t>
            </a:r>
            <a:r>
              <a:rPr b="0" lang="hu-H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http://www.sulinet.hu/tart/fcikk/Kch/0/32487/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Új Calculus Bt honlapja (http://www.calculus.hu/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16176-4FF9-4F63-993B-7DF839CEA2AE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0071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csay@gyakg.u-szeged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tematika@sulinet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csaytamas@gmail.h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A7FE2-7281-42A1-A746-EF9F6D9F3678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őzmény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erive első hallás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ducatio Kiállít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az iskolánk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 a 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ulinet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 Matematika rovatáb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A2ABD-7F7E-40E9-8BD1-DBFEDF301EB9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35.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feladat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ldjuk meg a 2cos5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4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3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2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2cos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+1=0 egyenletet valós számok halmazá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gyan segíthetjük a tanítványainkat a feladat megoldásához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DCC12-AB60-411B-BF3F-F2F688309F17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57. 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feladat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32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ldjuk meg az </a:t>
            </a:r>
            <a:r>
              <a:rPr b="0" i="1" lang="hu-HU" sz="4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4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-6</a:t>
            </a:r>
            <a:r>
              <a:rPr b="0" i="1" lang="hu-HU" sz="4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+5=0 egyenlete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251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 megoldást segítő 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0" y="0"/>
                <a:ext cx="7621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79D34-0759-4A3C-9E50-797554E60E84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a határozott integrál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9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melt szintű érettségi egy fontos fogalmának egy tárgyalási lehetősége a Derive program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3AA44-5C23-4942-B151-34CAFB81F613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Összetett függvény, inverz függvény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éhány nevezetes függvénytani fogalom Derive programmal segített  feldolgozási mód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rive</a:t>
            </a:r>
            <a:r>
              <a:rPr b="0" lang="hu-HU" sz="4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 munkala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FA6C9-018E-4F3D-8357-0826CDE524F9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gy várhatóértékes problém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pénzdarabbal addig dobunk, amíg háromszor egymás után fejet nem dobunk. Várhatóan hányadik dobásra következik ez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Arial"/>
              </a:rPr>
              <a:t>Egy flash anim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http://www.sulinet.hu/tart/fcikk/Kcv/0/19115/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A probléma tárgyalását segítő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7A22A-F1AE-44A3-AB5C-0F229429D026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perbola, parabola, ellipsz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juk meg azoknak a pontoknak a halmazát a síkban, melyeknek egy adott ponttól és egy rá nem illeszkedő egyenestől mért távolságaik aránya állandó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éhány konkrét arányt bemutató 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erive</a:t>
            </a: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Arial"/>
              </a:rPr>
              <a:t>Ami még szebb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utograph animáci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8D82C-945C-4864-822C-ED03C2F06D12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 </a:t>
            </a: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/>
              </a:rPr>
              <a:t>KöMaL B. 4001</a:t>
            </a: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. feladat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árom barátnő, Xénia, Yvett és Zita egy napon egymástól függetlenül, véletlenszerűen választott időpontban betérnek egy-egy órára a déltől este 8-ig nyitva tartó internetes kávézóba. Mennyi a valószínűsége, hogy mindhárman összefutna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A problémát szemléltető munka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Ugyanez Autograph segítségé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F3513-FDD7-4B5F-B423-96F40CD05901}" type="datetime8">
              <a:rPr lang="en-US"/>
              <a:t>07/28/26 22: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8:30:16Z</dcterms:created>
  <dc:creator>diak</dc:creator>
  <dc:description/>
  <dc:language>en-US</dc:language>
  <cp:lastModifiedBy>csiger</cp:lastModifiedBy>
  <dcterms:modified xsi:type="dcterms:W3CDTF">2008-04-24T07:02:52Z</dcterms:modified>
  <cp:revision>32</cp:revision>
  <dc:subject/>
  <dc:title>A Derive program alkalmazási lehetőségei a matematika oktatásában </dc:title>
</cp:coreProperties>
</file>